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4304-6095-40E1-8275-847C4276D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8B2A-3762-41E0-A4D3-3E702CCD8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9F30-7F6E-483E-AA59-196C1283F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D280-7EC1-45EE-ABD5-2ED2AF1FF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75150-927B-4D5A-82AF-229E781A5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E181D-6B3C-4528-95A5-50740A6FB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CF4F8-F7B3-4641-99BB-69558581C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5B28A-1D3B-4F1E-96AC-38392CF87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6CA74-555D-4800-9A64-A784329BB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EA64B-702F-4E62-B565-888058586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FC590-C2A1-4211-8A10-AD089E51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0D42-3F7B-437C-952F-ED659AE78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F0243-0AC1-48A0-B425-D6680B65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D66EF-EA6C-4B86-9645-CC1907BC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994D1-06DB-408F-8769-A9285BB61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05F90-144D-4F56-B70D-E10F97A5A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A4302-AAC9-4968-98C8-EDD12F8AC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2B71E-5239-4229-8E6E-1480EC550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125AD-8A03-4B62-B615-DFAF226C4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F5A4E-963A-46F6-9BBE-90B1CE738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DFD9E-B2FC-4EEA-B3D6-BD7EF7028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23BD5-A829-43CC-9FBE-9856FB373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E36B-9454-4B3F-9EE9-72D621A7F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13C45-FB1E-489B-B863-A70FF8DE9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1BB83-B058-4FE9-8036-8740E9D1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41E6F-CE56-48EF-9698-4CACC2B9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3E55E-FA36-4D91-A501-D724FE97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8C365-8E73-4A92-BC32-0247CF07C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E44E4-FA55-4568-809F-C8F5E39D9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EFE7F-55B5-42D8-BF7E-F113D099D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6681C-FF67-4835-9CF4-7E4817E61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0D27C-8422-46C8-9807-AEE7CB7BA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1C9C7-FFF3-4635-A756-FD17C8AF3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6CC8-FB38-45F3-8393-D3A5E92D7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CC357-1449-4561-8C50-B7D51A967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D2304-03FF-4E8D-8799-ECE9407BA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CA66C-7C17-47B7-BF43-CC0845E8F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EBEA3-7471-4DED-8B00-2E91434D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3D730-9841-4AD4-90A8-6C52F016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2A9BF-6137-4FDB-ACF5-3643638C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51E74-9574-4789-95D8-1C92527CB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25D43-B930-48DE-8CF5-F622DE681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6F235-53A4-43E6-9F1E-AF6370914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EF7E-07FF-4189-810D-801E7D0CE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F9B2-2315-480D-A6CC-5CAE127CD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70A0-8C67-4DF8-82F4-0D1C58ED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C92B-EC06-44CD-9627-2BDBFB2E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AE92-3D0B-40C8-A94A-D3CCC2E9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F48CC-B19A-4C04-8189-1DCDD25BAB8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612CC-425C-4996-B766-E47E1396CFA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BA120-333C-4429-A770-86CD37FE7D4C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D1042-02F7-485F-AA9A-D095A7BF18F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рямоугольник 9"/>
          <p:cNvSpPr/>
          <p:nvPr/>
        </p:nvSpPr>
        <p:spPr>
          <a:xfrm>
            <a:off x="4416480" y="3244680"/>
            <a:ext cx="1857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TextBox 7"/>
          <p:cNvSpPr/>
          <p:nvPr/>
        </p:nvSpPr>
        <p:spPr>
          <a:xfrm>
            <a:off x="452520" y="345960"/>
            <a:ext cx="792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артамент внутренней и кадровой политики Белгородской област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АПОУ «Алексеевский колледж»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TextBox 8"/>
          <p:cNvSpPr/>
          <p:nvPr/>
        </p:nvSpPr>
        <p:spPr>
          <a:xfrm>
            <a:off x="1109520" y="3424320"/>
            <a:ext cx="7286760" cy="30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онтроль и оценка качества профессионального образования»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сеевка - 17.05.2017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TextBox 1"/>
          <p:cNvSpPr/>
          <p:nvPr/>
        </p:nvSpPr>
        <p:spPr>
          <a:xfrm>
            <a:off x="755640" y="1851120"/>
            <a:ext cx="79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едание учебно-методического объединения по укрупненной группе специальностей подготовки «Клиническая медицина, фармация, сестринское дело, образование и педагогические науки, изобразительное искусство и прикладные виды искусств, история и археология, музыкальное искусство»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ых образовательных организаций Белгородской област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17T06:53:01Z</dcterms:created>
  <dc:creator>user</dc:creator>
  <dc:description/>
  <dc:language>en-US</dc:language>
  <cp:lastModifiedBy>user</cp:lastModifiedBy>
  <dcterms:modified xsi:type="dcterms:W3CDTF">2017-05-17T07:04:07Z</dcterms:modified>
  <cp:revision>2</cp:revision>
  <dc:subject/>
  <dc:title>Презентация PowerPoint</dc:title>
</cp:coreProperties>
</file>